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B14C-8251-4D21-8436-96005A421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dolier – journal up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Treatments - must be a UK residen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veland Clinic – online medical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SR – Evidence – no P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tor Evidence – patient ge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-Based On-Call Database – not P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PIN – not point-of-care; just l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D Consult – not EBM or P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CD21-D286-41B3-9373-ED722FB6D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7A55-2409-4263-8719-97162DA9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E8F7-6B0C-488E-BBDD-C654DBD41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065D-3785-4FB9-95AC-0264FD198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DA2D-3AC7-4E06-AABC-BF0DA948F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1A8C-554C-468C-A817-D960B6A8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B922-D78B-4143-81DA-A29CA736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37CC-A37C-4009-A985-F436576C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A010-DAED-4190-8F33-8E5B57AD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9F1B-B562-44D9-9ADF-D1CE1308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D4D3-EEE5-4291-A372-D1A6E3F4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0618-F596-44F5-8C3A-8ABE4288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3382-3475-4501-8D10-36F17553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D6EC-41C9-46B2-A67F-6735F82A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E9E9-FDCC-41C6-8207-F0F148FF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6DCF-CD3D-43E9-A782-0D729906F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1EB2-6CAC-412C-B7A1-1B4717B88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1948-45D2-438D-B869-7E9074C8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0103-58A6-4ED8-9AF8-7EAACA41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E634-7C76-428E-88CE-EEDF2C91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FFAB-D740-4561-9B48-24669ACE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40A4-2A33-4599-9DB5-8CF5298F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521A-3BFE-4CD5-9A23-0BFA6D7D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0193-8AE0-4BF0-9941-6DF8F6B9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C43C-1D01-474C-8092-D3ACF9F6FED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6F20-0220-4884-A223-423435C99CD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hsls.pitt.edu/services/instruction/presentations/mla2004/friedman04.ppt" TargetMode="Externa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mailto:jtrumble@utmb.edu" TargetMode="External"/><Relationship Id="rId2" Type="http://schemas.openxmlformats.org/officeDocument/2006/relationships/hyperlink" Target="mailto:Margaret.J.Anderson@uth.tmc.edu" TargetMode="External"/><Relationship Id="rId3" Type="http://schemas.openxmlformats.org/officeDocument/2006/relationships/hyperlink" Target="mailto:mcaldwe@mdanderson.org" TargetMode="External"/><Relationship Id="rId4" Type="http://schemas.openxmlformats.org/officeDocument/2006/relationships/hyperlink" Target="mailto:sfulton@mdanderson.org" TargetMode="External"/><Relationship Id="rId5" Type="http://schemas.openxmlformats.org/officeDocument/2006/relationships/hyperlink" Target="mailto:anhoward@utmb.edu" TargetMode="External"/><Relationship Id="rId6" Type="http://schemas.openxmlformats.org/officeDocument/2006/relationships/hyperlink" Target="mailto:beatriz.varman@exch.library.tmc.edu" TargetMode="External"/><Relationship Id="rId7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ils.mdacc.tmc.edu/papers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 Systematic Evaluation of Evidence Based Medicine Tools for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oint-of-Car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CC/MLA 2006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efinitions – Evidence-based Medicin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onscientious, explicit and judicious use of current best evidence in making decisions about the care of individual patients.  The practice of evidence-based medicine means integrating individual clinical expertise with the best available external clinical evidence from systematic research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acket DL, Strauss SE, Richardson WS, Rosenberg W, Haynes RB. Evidence-based medicine: how to practice and teach EBM. New York: Churchill-Livingstone; 2000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finitions – Point-of-Ca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y location where patient care is provided, including, e.g., the bedside, radiology suite, emergency room, clinic, or ambul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aber CW,  Thomas CL. Taber's cyclopedic medical dictionary. Philadelphia: F.A.Davis; 1997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efinitions – Background Ques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ks for general knowledge about a disorder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o, what, when, where, why, ho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ample: 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diabetes? 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re is the pancrea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acket DL, Strauss SE, Richardson WS, Rosenberg W, Haynes RB. Evidence-based medicine: how to practice and teach EBM. New York: Churchill-Livingstone; 2000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efinitions – Foreground Ques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k for specific knowledge about managing patients with a disord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CO –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P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ient,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I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tervention,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C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mparison (if relevant),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tco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xample:  In young children, is cefdinir (Omnicef) or Amoxicillin and Clavulanic Acid (Augmentin) more effective in resolving otitis media.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acket DL, Strauss SE, Richardson WS, Rosenberg W, Haynes RB. Evidence-based medicine: how to practice and teach EBM. New York: Churchill-Livingstone; 2000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tegories – General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s the product really point-of-car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neral Inform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ubscription models (free, individual, institutional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e did not attempt to add cost into our product evaluation as this would vary greatly by type/size of institu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hen possible, we did gather data on pricing models/structur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ccess models (IP, password, simultaneous user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arget Audi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rketing Clai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tegories - Cont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cop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olume (number of documents) –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oblematic measure – every vendor counts different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e collected data and tried to “normalize” scores we gave to produc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eadth (number of subject area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pth (number of levels within subject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rug Inform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tient Handou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vailability and languages included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E Credits – and for which practition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tegories - Cont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actice Guideli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lu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requency of embedded in top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cess to the guideline provid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tegories – Quality Contro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uthorshi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dividual(s) identifi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edentia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er revie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pda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often are new topics add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often are records updated/revis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tegories - Search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ypes of searchin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eyword, browse, drug, advanc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ab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ase of navig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ase of print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output avail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el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tegories - Resul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ype of question answe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ckground, foregrou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ation of resul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adability and organiz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idence gra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requency, clarity, system us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idence summa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uthors –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SLC Communications Tea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ulie M. Trumble, University of Texas Medical Branch Moody Medical Libr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rgaret J. Anderson, University of Texas Health Science Center Houston School of Public Health Libr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rlene Caldwell, Texas Health Science Libraries Consorti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elicia Chuang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" sz="2000" spc="-1" strike="noStrike">
                <a:solidFill>
                  <a:srgbClr val="003366"/>
                </a:solidFill>
                <a:latin typeface="Arial"/>
              </a:rPr>
              <a:t>University of Texas Harris County Psychiatric Center UT Psychiatry Libr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ephanie Fulton</a:t>
            </a:r>
            <a:r>
              <a:rPr b="1" lang="en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" sz="2000" spc="-1" strike="noStrike">
                <a:solidFill>
                  <a:srgbClr val="003366"/>
                </a:solidFill>
                <a:latin typeface="Arial"/>
              </a:rPr>
              <a:t>UT M.D. Anderson Cancer Center Research Medical Libr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3366"/>
                </a:solidFill>
                <a:latin typeface="Arial"/>
              </a:rPr>
              <a:t>Anne Howard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iversity of Texas Medical Branch Moody Medical Libr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atriz Varman, Houston Academy of Medicine – Texas Medical Center Libr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tegories - Resul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grated in 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ibliograph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enURL link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ubMed link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tegories – Other Featu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ustomiz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gration with other technologies (PDA, EMR, etc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ique or useful featu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ing featu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aw Ranking of Produ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CP PIER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Medicin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DynaMed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linical Evidence*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linical Resources @ Ovid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UpToDat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Diseasedex – General Medicin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irstConsul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foPOEMS/InfoRetriever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Zynx Evidenc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arrison's Practice: Answers on Demand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rodigy Knowledge*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vidence Matter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*United Kingd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eighting of Categor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tegories were weighted to allow some areas to be more important than oth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d 3 different weighting schem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 – just weighted “evidence” categor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 – just indicated some categories as “important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 – assigned levels of importance to categor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readsheet has a place where weighting can be changed to reflect individual institution’s nee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eighting of Categories for Eviden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d an important/not as important syste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mportant categories were multiplied by 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t as important categories were multiplied by 0.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mportant” Categories for Evidenc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es it grade the evidenc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ummary of evidenc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pdating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uthorshi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ences within text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ib. at the end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anking of Products by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vidence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14400" y="2361960"/>
            <a:ext cx="7616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CP PIER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linical Evidence*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DynaMed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linical Resources @ Ovid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Medicin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UpToDat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Diseasedex – General Medicin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foPOEMS/InfoRetriever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irstConsul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Zynx Evidenc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vidence Matter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arrison's Practice: Answers on Demand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rodigy Knowledge*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*United Kingd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eighting of Categories – Important/Not as Importa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anded the important/not as important system used for evid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t as important categories were multiplied by 0.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eighting of Categories – Important/Not as Importa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mportant Categorie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readt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pt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rug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dividual author lis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eer Review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pdat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eywor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rows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rug sear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7960" y="2666880"/>
            <a:ext cx="377028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ase of navig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ype of question answe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ase of read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rading the eviden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mmary of eviden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ibliography at the en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inks to PubM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D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MR integr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anking of Products by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mportant/Not as Important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CP PIER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linical Evidence*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DynaMed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Medicin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Diseasedex – General Medicin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linical Resources @ Ovid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UpToDat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foPOEMS/InfoRetriever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irstConsul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Zynx Evidenc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arrison's Practice: Answers on Demand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vidence Matter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rodigy Knowledge*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*United Kingd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eighting of Categories – Levels of Importan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assigned values to provide gradations of importance to the data collec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alues assign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 – least importa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 – moderately importa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 – most importa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ckgrou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int-of-care EBM tools prolifera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ciding on “right” tool is difficult as products vary 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plex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cessi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nded audi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eighting of Categories –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evels of Importan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tegories Weighted as Most Important (3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readt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pt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requency of updating rec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eyword search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ase of navig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nswering foreground (PICO) ques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ase of read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larity and organization of resul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rading the eviden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mmary of eviden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eighting of Categories –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evels of Importan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tegories Weighted as Moderately Important (2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Drug informat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here drug information is availab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Practice Guidelines- frequency of availabilit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Practice Guidelines – links to online full-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Peer review of entri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requency of new topics adde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arching by browsin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arching by drug nam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Ease of printin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nswering background question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References within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Bibliography available at the en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vailable on PD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vailable within EM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eighting of Categories –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evels of Importan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ent – 31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ality Control – 11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rching – 18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sults – 32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atures – 7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anking of Products by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evels of Importance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CP PIER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linical Evidenc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Diseasedex – General Medicin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DynaMed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foPOEMS/InfoRetriever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Zynx Evidenc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Medicin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linical Resources @ Ovid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UpToDat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irstConsul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rodigy Knowledg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arrison's Practice: Answers on Demand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vidence Matter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*United Kingd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arison of Ranking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95680" y="2362320"/>
            <a:ext cx="243864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54000" y="2514600"/>
            <a:ext cx="377028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7280" y="6477120"/>
            <a:ext cx="112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*United Kingd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838080" y="2362320"/>
          <a:ext cx="7693200" cy="3983040"/>
        </p:xfrm>
        <a:graphic>
          <a:graphicData uri="http://schemas.openxmlformats.org/drawingml/2006/table">
            <a:tbl>
              <a:tblPr/>
              <a:tblGrid>
                <a:gridCol w="1924200"/>
                <a:gridCol w="1922400"/>
                <a:gridCol w="1924200"/>
                <a:gridCol w="1922400"/>
              </a:tblGrid>
              <a:tr h="266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Raw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Evidence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Important/Not As Important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Levels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64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ACP PIER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ACP PIER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ACP PIER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ACP PIER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eMedicine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Clinical Evidence*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Clinical Evidence*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Clinical Evidence*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ynaMed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ynaMed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ynaMed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iseasedex – General Medicine 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Clinical Evidence*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Clinical Resources @ Ovid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eMedicine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ynaMed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Clinical Resources @ Ovid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eMedicine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iseasedex – General Medicine 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InfoPOEMS/InfoRetriever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UpToDate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UpToDate 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Clinical Resources @ Ovid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Zynx Evidence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iseasedex – General Medicine 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iseasedex – General Medicine 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UpToDate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eMedicine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FirstConsult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InfoPOEMS/InfoRetriever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InfoPOEMS/InfoRetriever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Clinical Resources @ Ovid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InfoPOEMS/InfoRetriever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FirstConsult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FirstConsult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UpToDate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Zynx Evidence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Zynx Evidence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Zynx Evidence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FirstConsult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Harrison's Practice: Answers on Demand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Evidence Matters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Harrison's Practice: Answers on Demand</a:t>
                      </a:r>
                      <a:r>
                        <a:rPr b="0" lang="en-US" sz="7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Prodigy Knowledge*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Prodigy Knowledge*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Harrison's Practice: Answers on Demand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Evidence Matters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Harrison's Practice: Answers on Demand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Evidence Matters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Prodigy Knowledge*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Prodigy Knowledge*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Evidence Matters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cep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idence Mat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alysis showed not a point-of-care to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ful research to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ique use of PICO question in formulating quer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 the fly” creation/manipulation of data from journal artic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cep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ealthGa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ot ranked with other products because so differ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 is to provide a forum for structured collaboration and provide actionable evidence for groups such as hospital quality control committees working on standard documents such as order entry, discharge planning, et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ynthesized evidence is available to authors but not to users of the end-products (the final CPOE, for examp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ther evidence products purchased by an institution can be integrated into HealthGa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cep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easedex General Medicine and Zynx Evidence Evid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oth products are similar to others considered in this stud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ut, both are parts of larger products that are used at the point-of-care that may make them more accessible to health care provid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iseasedex General Medicine is a component of Micromedex which covers a variety of areas including drugs, alternative medicine, toxicology &amp; laboratory information, etc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Zynx Evidence has components for order sets and care pla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oth products can be integrated into the EMR so can be accessed along with patient dat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aluating products a subjective proc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ndard measures can help show product distinc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dividual institution needs important part of consider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ider having practitioners rate which categories on the form are most import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ider having practitioners try top resources to get real-life perspec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vestigate relationships with institutional departments involved in EMR for true point-of-care access for health care provid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urpo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ystematically compare and contrast EBM point-of-care too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actively identify and learn about point-of-care products available on the mark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eeping Curr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MLA -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ectronic Resources Review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LA New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dical Reference Services Quarter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cknowledg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77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iedman PW, Ketchum AM. A reusable template for evaluating point-of-care information products. 2004 MLA Annual Meeting; May 21-26, 2004; Washington DC; 2004. Available from: </a:t>
            </a:r>
            <a:r>
              <a:rPr b="0" lang="en-US" sz="16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hsls.pitt.edu/services/instruction/presentations/mla2004/friedman04.pp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estion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act information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ulie Trumble –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jtrumble@utmb.ed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rgaret J. Anderson -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Margaret.J.Anderson@uth.tmc.ed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rlene Caldwell –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mcaldwe@mdanderson.or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ephanie Fulton –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sfulton@mdanderson.or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ne Howard –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anhoward@utmb.ed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atriz Varman -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beatriz.varman@exch.library.tmc.ed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sentation Fi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ils.mdacc.tmc.edu/papers.ht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werPoint sli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cel file with data collected on individual produ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lank spreadsheet to use on your ow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tho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dentify EBM point-of-care tool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terature search in Medline, CINAHL, LIS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edlib-L discuss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and searched journals, including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ML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edical Reference Services Quarter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all of Exhibits at MLA Annual Meeting 2006 in Phoenix, AZ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pen Access Medicine (OAM) – Sources on the Web Evidence-Based Medical Information – Open vs. Closed Access – Dean Giustini –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www.slais.ubc.ca/courses/libr538f/04-05-wt2/sourcesofevidence.pdf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clusion Criter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duct must claim to provide evidence based information for direct patient c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ducts not marketed as point-of-care tools are exclud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ducts Included in the Stud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CP PIER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linical Evidence*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linical Resources @ Ovi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Diseasedex – General Medicin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DynaMe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eMedicin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Evidence Matter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rstConsul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arrison's Practice: Answers on Deman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ealthGate**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InfoPOEMS/InfoRetrieve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Prodigy Knowledge*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UpToDat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Zynx Evidence Evidenc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*United Kingdo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**excluded from final rankin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roducts Not Included in the Stud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ndoli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st Treat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eveland Clinic Disease Manage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chrane Database of Systematic Review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ctor Evid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idence-Based On-Call Datab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PIN Clinical Quer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D Consul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iteria Studi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dentified categories and assigned a sc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fter reviews completed, categories were weighted by importance to increase relevancy rank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ta gathered in 6 main categor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eneral Information – 5 subcategor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tent – 4 subcategor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arching – 2 subcategor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sults – 4 subcategor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ther Features – 4 subcategor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7T19:02:39Z</dcterms:created>
  <dc:creator>UTMB</dc:creator>
  <dc:description/>
  <dc:language>en-US</dc:language>
  <cp:lastModifiedBy>UTMB</cp:lastModifiedBy>
  <dcterms:modified xsi:type="dcterms:W3CDTF">2006-11-13T21:28:48Z</dcterms:modified>
  <cp:revision>26</cp:revision>
  <dc:subject/>
  <dc:title>A Systematic Evaluation of Evidence Based Medicine Tools for Point of Ca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133515065</vt:r8>
  </property>
  <property fmtid="{D5CDD505-2E9C-101B-9397-08002B2CF9AE}" pid="3" name="_AuthorEmail">
    <vt:lpwstr>jtrumble@UTMB.EDU</vt:lpwstr>
  </property>
  <property fmtid="{D5CDD505-2E9C-101B-9397-08002B2CF9AE}" pid="4" name="_AuthorEmailDisplayName">
    <vt:lpwstr>Trumble, Julie M.</vt:lpwstr>
  </property>
  <property fmtid="{D5CDD505-2E9C-101B-9397-08002B2CF9AE}" pid="5" name="_EmailSubject">
    <vt:lpwstr>Updated Spreadsheet, PPT, and PDF Files</vt:lpwstr>
  </property>
  <property fmtid="{D5CDD505-2E9C-101B-9397-08002B2CF9AE}" pid="6" name="_NewReviewCycle">
    <vt:lpwstr/>
  </property>
</Properties>
</file>